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84C-0790-4BBE-A4EC-DD12D9DE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ED8-79DC-4AEE-837E-7B1D3409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7D4-4D77-4FBD-BAB4-9FA1AE31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3FC-E3EC-4603-9C08-13411FE9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F38-E270-4889-A9EF-1627E37B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2557-BF58-4D69-8FEC-C534AA3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A6E-5DCF-4347-BF18-CF7E3F4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EC53-EAF1-434F-B0C3-28F8CEFD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64FB-C5F8-487A-A0E9-1DAF950D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E4E-1801-4D0D-8B2A-B7715BB0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B16E-E14B-4C52-ACC8-F6240C2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043-7D7D-46B9-8F6E-5BBEE19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4580-1090-4129-8E2A-09DE750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D8AE-30F5-4E1B-AEFE-795B324F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6D0-3948-473B-81DD-5CE25D6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2670-0A3D-41FF-8FEA-9FD8132B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0B8-623C-4BEA-AD20-D93D3249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275-5C89-429E-A7E3-BE34FE3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35F-37A2-4D1E-B40C-F560650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CD5-2CBA-4216-AC82-445B5B4D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E4C-6E67-4E6A-9043-861A91BD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523-061A-427E-B2B0-6DAB3EE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62F-6DFB-4784-865F-727E1FF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162-DD3E-449A-B977-0D7339B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68C-4A96-4AFC-9983-D55F0CBA6B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BF87-8FE7-4DDE-A16F-27765D8977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d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etto in Po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aled off- 160,000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vation, overcrowding, exposure to cold, disease kills thous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create sense of daily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d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sa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etto in Po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to Lodz but lar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0,000 Jews (30 % of population) live in 2.4 % of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quidate the Ghet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2-1944 Nazi officials eliminate ghet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ort survivors to extermin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eople left Ger to escape the Naz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nt to other Europea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nvades rest of Europe-caught with nowhere to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d time getting to USA and other countries-quotas, can’t get vi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ty-most countries did not want to take any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. Lou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900 people on board trying to get to Cuba or USA-turned away-returns to Germ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229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desirables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opponents, trade unionists declared ‘undesirables’ &amp; ‘enemies of the state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vah’s Witnesses banned-kids take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is considered Poles ‘subhuman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professors, artists, writers, politicians,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icapped deemed ‘incurable’ &amp;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upset with this idea, Nazis do killings in secr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viet U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, political leaders, Communists, Gypsies killed in mass shoo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bile killing squads-followed behind Ger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bi Yar (near Kiev) 33,000 people killed over 2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everyone in BHC being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/23/193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zi authorities declare all Jews living in the General Gov’t (all areas under Ger occupation) must wear white badges with a blue Star of Dav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4114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het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000,000 Jews in Poland forced to live in ghet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is create about 400 ghet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8:39:36Z</dcterms:created>
  <dc:creator>Julianne Stolarczyk</dc:creator>
  <dc:description/>
  <dc:language>en-US</dc:language>
  <cp:lastModifiedBy>Stephen Rauch</cp:lastModifiedBy>
  <dcterms:modified xsi:type="dcterms:W3CDTF">2008-03-28T19:47:56Z</dcterms:modified>
  <cp:revision>4</cp:revision>
  <dc:subject/>
  <dc:title>Immigration</dc:title>
</cp:coreProperties>
</file>